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B412-10FD-46F4-B392-831481C0E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006F-AE8F-4F15-AED7-FAD5BC900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loosestrife = an introduced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tlands plant from Europe - like many species was released acciden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llast water in ships docked at port (seeds in water)  Also int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herbal reme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enemies here, so sp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eliminated many native plants that provide food and cover for wildlif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 of Canada and the U.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on the East Coast and has sp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prolific, spread in water and by livestock that walk through mud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ies the seeds.  20,000 seeds per 1.2 square yards in some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l plant so shades other native plants and blocks thei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stock doesn’t like is to won’t feed on it.  Reduces the carrying capa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razing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to kill.  Regrows from roots if plant is cut, burned or spr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now is on bringing in natural para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5528-2B54-4C3B-82E9-32C67A8F3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CB08-09C3-46FD-815E-E81295402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evenness in a community appears more diverf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pg 119 fig 7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econd picture, is walking through the community would hav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s of seeing all the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005E-A7C3-4AC8-A6F8-D498C625B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1531-279A-4CFF-B508-815448932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D92F-EB85-47A1-A62B-602A5A687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9BA6-630C-46EE-8914-F8E981617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umerous groups, with most members know, are the insect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pecies have yet to be discovered, many in the tropical rainfo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o many species? Seems to be related to 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949D-ABC2-4249-B732-218C90DD3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34CA-3465-4626-8815-7B07B0B5C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7F6B-FFF9-4C6B-B2A1-DFA3F64DD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8664-0E03-41AD-A59F-0A9786013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y was introduced into GB because it was “cu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ut-competing the Red Squirrel which is 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i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ys eat acorns from oa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well since most of the areas have oak (It is the dominant larg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s may ago extinct in the next 20 years (if not….will be left to area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any oa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5868-3299-4563-9F48-DA4069383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8169-83D3-4B4D-9C19-D81C0C56F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97C3-C5DB-4645-92F1-F5E2C0570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FE62-0C7D-478A-BA3C-0159D8DDF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tchinson is the scientist who first suggested this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lat worm stucy on page 125.  Fig 7.6  Also barnacle exampl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ave an endangered species we must make sure that all the life requirements for that species are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B5B0-B41B-46AF-AB47-87D3AE449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0DEDF-3D9A-4C40-960A-328DB47FB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FA36-D394-4129-B85B-DA0C2B354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62AC-1C87-4B92-B5FC-8E19EB350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65A1-06DE-43A4-9CD9-5E97F2A5C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99F1-92AA-4F9B-A4FD-1F929B88D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76 A.R. Wallace suggested idea or real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ctic = Nor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tropial = cental and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aearctic = europe, north asia and nor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l = indian subcontinent and malay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alian = a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B912-ECA1-4483-8845-D0426B145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D689-5EB0-43BC-820E-6A9C99128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C7E1-55FA-4FDC-A57A-FFF02C180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DBC0-6BFC-47B7-92CD-5CF9883CA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xamples = fish and marine mammals,  birds and bat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C420-8603-4F3E-88C3-1FA7B6208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966D-5210-43CD-8B1E-CEB1F9FBA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0B92-B294-4253-92F5-E82AD8ED7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AE4E-72E4-45F6-901E-627D21E2C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radiation: classic example is Darwin’s fi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diversity and is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and 2) smaller islands have fewer types of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less likely to be found by mi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of extinction is higher for smaller pops and smaller is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an only support smaller pops (see pg 13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ources of species on islands = evolution and migration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ther away = fewer migra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and speciation rate - extinction rate = # of species on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s to maintain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255B-4FB6-4529-8B4F-A03E6D056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C94B-D0B1-484E-9F00-32446297C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4894-6704-4EA1-8A29-BAB1F484D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AA1C-2992-421E-BE02-424121C2D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2AD4-FED1-4C36-8176-18E2F4DF3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D78A-CC16-4E03-8879-67BE25FF47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B4B0-C73A-4EBC-8D7F-DBAA10A82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D8A-8CD7-4FDF-9AF2-33B9C686E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FF81-9B0C-411E-8709-C24606E4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D30-59DC-49D3-BFE8-26F50A94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F9E-C7C3-4DDF-A64F-6C673119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6797-86AF-4FD3-9BA2-B67F5E52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B90-1C4D-4875-BD31-4B14AA86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606-4BC8-43A6-994A-F198D68E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7ED-8D5E-4C77-BB3B-AC82904A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B1A-0E78-4EE8-BB76-46F33217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B86-ACBF-4F9C-AC7E-B685DC49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ECCD-4C85-42AF-BB7E-DCBFECDF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75A-0CE4-437F-9EB8-9C43B036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74ED-C3CC-48A1-A48F-03D5E6EF553C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pter 7 and 8 - Biological Diversity and Biogeograp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37920" y="190512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8989"/>
                </a:solidFill>
                <a:latin typeface="Calibri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8989"/>
                </a:solidFill>
                <a:latin typeface="Calibri"/>
              </a:rPr>
              <a:t>Salmon Importance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Concepts of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4475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major concep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 Genetic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 Habitat divers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 Species diversity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pecies richness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.  Species evenness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.  Species dominance 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4400" spc="-1" strike="noStrike" u="sng" baseline="30000">
                <a:solidFill>
                  <a:srgbClr val="000000"/>
                </a:solidFill>
                <a:uFillTx/>
                <a:latin typeface="Calibri"/>
              </a:rPr>
              <a:t>st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Hw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2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nnon-Weiner Biodiversity Inde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ad and do sample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w all work and solve for H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so:  Calculat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Evennes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each problem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Evenness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mula =   H’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 ln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 = number of different spec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Absolute evenness =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31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1" lang="en-US" sz="2900" spc="-1" strike="noStrike" u="sng" baseline="30000">
                <a:solidFill>
                  <a:srgbClr val="000000"/>
                </a:solidFill>
                <a:uFillTx/>
                <a:latin typeface="Calibri"/>
              </a:rPr>
              <a:t>nd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 Hwk and Pre-lab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040" y="1447920"/>
            <a:ext cx="7769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e-lab work: Do #1 as hwk. (On separate pap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lculate S-W biodiversity index for both pictures (fig. 7.4) on page 12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lve for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nd Evenn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w all 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swer pre-lab questions in lab notebook (on title page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#2 and 3 become your hypothesis (under purpose on title pg. for upcoming la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-11880"/>
            <a:ext cx="731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212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habitat ter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ic = introduce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emic = 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opolitan - very broad distribu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but need similar habit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biquitous = found almost everywhere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even very different habita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any species on Ear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certai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ior to fogging study: Range =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 - 3 mill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fter study: 10 -100 million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a collage of biodiversity-related images. Copyright of Flinders University. Individual images used with permission."/>
          <p:cNvPicPr/>
          <p:nvPr/>
        </p:nvPicPr>
        <p:blipFill>
          <a:blip r:embed="rId1"/>
          <a:stretch/>
        </p:blipFill>
        <p:spPr>
          <a:xfrm>
            <a:off x="4724280" y="1600200"/>
            <a:ext cx="4038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actions Between Spe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10666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in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Competition:  negative for b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369800" y="228240"/>
            <a:ext cx="731340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Symbiosis:  both benef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very common; exists amongst most plants and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369800" y="0"/>
            <a:ext cx="731340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Predation - parasitism:  positi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one and negative for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45684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lusion Dominance and Diversity: The Competitive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etitive exclusion = 2 species with exact same requirements cannot coexist in the same habitat.  They will compete and the more fit one will win out and pers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-2289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biological evol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295280" y="990360"/>
            <a:ext cx="731376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t’s the change in inherited characteristics of a population from generation to gener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at are some process that lead to biological evolu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72840" y="244440"/>
            <a:ext cx="690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09480" y="-360"/>
            <a:ext cx="83059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he: how species co-ex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abita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 org lives as compar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 does to survive, which is its’ ecological nic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that require the same resources can coexist only if they can utilize them under different env. conditions (different ecological nich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9800" y="140400"/>
            <a:ext cx="731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that require the same resources can coexist only if they can utilize them under different env. conditions (different ecological nich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123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4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hes can be measur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nge of niche a species will occupy with no competitor is called its’ fundamental 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nge in which it actually lives, if it is having to compete, is called its’ realized 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vironmental Factors That Influence Diversity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ersity varies from place to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, greater in lower latitu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72840" y="14400"/>
            <a:ext cx="690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560" y="533520"/>
            <a:ext cx="8305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ical gradient:  the change in relative abundance of a species over an area (ie: change in elevation in the mtn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F7_10"/>
          <p:cNvPicPr/>
          <p:nvPr/>
        </p:nvPicPr>
        <p:blipFill>
          <a:blip r:embed="rId1"/>
          <a:stretch/>
        </p:blipFill>
        <p:spPr>
          <a:xfrm>
            <a:off x="304920" y="2514600"/>
            <a:ext cx="8839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-237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-360"/>
            <a:ext cx="7924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that increase or decrease divers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Increase divers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  Physically diverse habit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Mode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isturb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 Small variation in env. condi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.  High diversity at one trophic level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increases diversity of another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84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3160" y="-380880"/>
            <a:ext cx="84582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Decrease divers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  Environmental str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 Extreme environmental condi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 Severe limitation of an essential resour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.  Extreme disturb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.  Recent exotic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6.  Geographic isolation (island effec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06600" y="14400"/>
            <a:ext cx="690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440" y="6091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s greatly affect diversit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 and indu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voring one species over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ipulating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diversity in an area may change over time, seasons, decades, centuries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-6476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eography of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s and numbers of species varies greatly from place to place.  These large-scale global patterns are called bio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F7_11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25560"/>
            <a:ext cx="731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tic Provi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 “realms” were identified in 1876 based on the types of animals found t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member: classification of orgs are based on evolutionary relationships or similar characteris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8377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utations m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3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44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al drift explains the origin of these provinces as land masses periodically unified (genetic mix and spread of species) and then separated (isolation and speci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4568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iom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ontinent has diverse climates and habitats so diversity of species is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me = a kind of eco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environmental conditions (selective pressures) lead to evolution of orgs similar in form and function but not genetic heritage or internal make-up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84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4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ergent evolution occurs when a pop. is separated and evolves in isolation from main groups, often under different selective pressures.  They have common ancestry and retain some common characteristics of their ancestors. (ex: marine mamma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1473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24852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28600" y="228600"/>
            <a:ext cx="4343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8.10  Evolutionary divergence among honeycreepers in Hawai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F8_10"/>
          <p:cNvPicPr/>
          <p:nvPr/>
        </p:nvPicPr>
        <p:blipFill>
          <a:blip r:embed="rId1"/>
          <a:stretch/>
        </p:blipFill>
        <p:spPr>
          <a:xfrm>
            <a:off x="1143000" y="843120"/>
            <a:ext cx="72388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-161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4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sland Bio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 observe adaptive radiation: species evolve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ivergent ev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they separate into smaller groups, often on different islands, each adapting to a more specialized role (nich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es diversity and islan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24852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228600" y="228600"/>
            <a:ext cx="4343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8.11 Idealized relation of an island’s size, distance from the mainland, and number of species. Pg 13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5" descr="F8_11"/>
          <p:cNvPicPr/>
          <p:nvPr/>
        </p:nvPicPr>
        <p:blipFill>
          <a:blip r:embed="rId1"/>
          <a:stretch/>
        </p:blipFill>
        <p:spPr>
          <a:xfrm>
            <a:off x="0" y="1066680"/>
            <a:ext cx="86104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tural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ies on variation of individuals within a species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enetic diversity is ke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ose orgs with traits that make them better fit or adapted survive well, reproduce more and pass these helpful traits on to their offsp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ppered moth = classic exampl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ation (evolution of a new spec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 Geographic isolation of two populations of the same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 They each evolve separ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entually differences accumu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352680" y="297180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isolation can occur due to mutations to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4"/>
          <p:cNvSpPr/>
          <p:nvPr/>
        </p:nvSpPr>
        <p:spPr>
          <a:xfrm>
            <a:off x="5486400" y="35812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-360"/>
            <a:ext cx="83059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Mig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uring migration different selective pressures may be encounte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pulations may become separat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Genetic Dri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hanges in gene frequency of 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pulation due to chance - not due to being better adapt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ay greatly impact small population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angerous for rare and endangered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bottleneck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53352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 hunting left only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876920" y="5867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individuals left – 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02:27:05Z</dcterms:created>
  <dc:creator>santiago high school</dc:creator>
  <dc:description/>
  <dc:language>en-US</dc:language>
  <cp:lastModifiedBy>infosys</cp:lastModifiedBy>
  <dcterms:modified xsi:type="dcterms:W3CDTF">2013-10-10T20:55:53Z</dcterms:modified>
  <cp:revision>61</cp:revision>
  <dc:subject/>
  <dc:title>Chapter 7 - Biological Diversity and Biogeography</dc:title>
</cp:coreProperties>
</file>